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9EB-2EEA-4A5C-93B5-EDC0534F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305-FA3E-4DF2-9A05-CDE2CD08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DE0E-0367-4D30-995E-6A5631D3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637-FED0-43D1-AC0D-532FB3AE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758-26FB-46EE-AF61-B0A9A049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F88-EC36-47F0-ADF1-905BB57E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46B1-02B9-4359-ACA4-04910913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9D6B-1543-4897-9000-9EE7D463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628-DBF5-451A-8A88-89E26A48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EF6-6AC5-41A2-BA7D-54E83C72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B97-837C-49F6-96C1-9674CE25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7CF-3509-4FE2-9E3B-628D94E8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199A-5BAD-4933-BA0B-A481808BCE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Bivariate Data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mbria"/>
              </a:rPr>
              <a:t>2A Dependent and Independent Variabl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Data that contains two variables is called </a:t>
            </a: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bivariate data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n a relationship between two sets of variables, the values of one variable often depend on the values of another variabl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e plot the dependent variable on the vertical (y) axis and the independent variable on the horizontal (x) axi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You need to make a judgment about which variable is dependent and which is independent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Number of skiers and depth of snow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Number of pies sold at footy and temperature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In a factory, hours worked and pay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Circumference of an athlete’s biceps and ability to perform a lift test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A person’s height and favourite tv show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The running cost of a car and the age of a car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ercise 2A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Do all the questio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01:47:29Z</dcterms:created>
  <dc:creator>08843474</dc:creator>
  <dc:description/>
  <dc:language>en-US</dc:language>
  <cp:lastModifiedBy>08843474</cp:lastModifiedBy>
  <dcterms:modified xsi:type="dcterms:W3CDTF">2011-02-06T02:21:49Z</dcterms:modified>
  <cp:revision>5</cp:revision>
  <dc:subject/>
  <dc:title>Slide 1</dc:title>
</cp:coreProperties>
</file>